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FC6-4027-47B3-84ED-C86A9708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39B-6790-4BAD-ADA4-47C4BF18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36C-8496-4920-8B6D-BE6BF078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C0E-A2F7-4518-BD2F-AA0C54AC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41A0-9B83-4B3D-A1C6-007D2455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2F9-6113-4B81-A3B4-2DFE2DD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75C4-5F4C-468B-AE6F-A924E866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5EB-4553-4ACA-BE4B-D5EE46D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E054-C5D6-4414-AEEA-EE7CAE7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937-1100-4BD9-A53B-F8622F6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FBB-2501-465F-9F71-7458FC0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5F2-EB90-48DD-88EA-67B9884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D01C-DA5B-468D-86E3-0A2F90C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B28C-0E63-4667-B202-ECCD464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1D85-36B2-4F3C-9E19-0AA9ECC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65B-6D7F-41AB-8305-7E29B64A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1E30-F509-48A8-A158-41C0D1AF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6F7-8A81-478F-AC3D-CC5FC946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F6C-9B54-4876-92A3-7D69FD5A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4CB-A424-4D12-9FBC-218B1C86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4B3-588B-458C-93B6-1100058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BC9-A40D-4A95-9374-EEBE4DA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DAF-9E79-49D9-9791-4B05572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CF2-F058-484C-8311-B18C520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C02-6A9C-49F1-9D26-0789381BB2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1D99-DA01-414B-8E09-4A5D8CEBE3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Everybody!!!               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aa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,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3276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7091280" y="216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ing fluenc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mmarizing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Calder ga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y Potte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n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titans curse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acticing math skil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 da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819520"/>
            <a:ext cx="739116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cosystem uni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ectricity uni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eld trip to U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p of US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ngitude and latitu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me meridian and equ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ecti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ea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r student le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ugh draf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eirdest wake u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g day at scho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of my favorite experiences are,going to UL when they put tin foil in the micro wa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ching footballs when there was a big crowd in front of m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1611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good at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reading fl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handwriting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reading fluency by reading to my parents each day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grammar by making book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handwriting by writing at ho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5T15:23:49Z</dcterms:modified>
  <cp:revision>38</cp:revision>
  <dc:subject/>
  <dc:title>Welcome Mom and Dad!</dc:title>
</cp:coreProperties>
</file>